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7.png" ContentType="image/png"/>
  <Override PartName="/ppt/media/image8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907588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1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2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3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8A22FF-C062-4641-A52F-7CAAD354658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Замещающий номер слайда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B2DB1B-C92F-422D-AC3D-906E42C34FB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1264"/>
          <p:cNvSpPr/>
          <p:nvPr/>
        </p:nvSpPr>
        <p:spPr>
          <a:xfrm>
            <a:off x="5180040" y="6513480"/>
            <a:ext cx="3954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2900520" y="857160"/>
            <a:ext cx="3341520" cy="2313000"/>
          </a:xfrm>
          <a:prstGeom prst="rect">
            <a:avLst/>
          </a:prstGeom>
          <a:ln w="0">
            <a:noFill/>
          </a:ln>
        </p:spPr>
      </p:sp>
      <p:sp>
        <p:nvSpPr>
          <p:cNvPr id="66" name="Прямоугольник 11266"/>
          <p:cNvSpPr/>
          <p:nvPr/>
        </p:nvSpPr>
        <p:spPr>
          <a:xfrm>
            <a:off x="914400" y="3300480"/>
            <a:ext cx="7313760" cy="26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Замещающий номер слайда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2B5923-18AC-45D7-826C-37365AEF6D8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12288"/>
          <p:cNvSpPr/>
          <p:nvPr/>
        </p:nvSpPr>
        <p:spPr>
          <a:xfrm>
            <a:off x="5180040" y="6513480"/>
            <a:ext cx="3954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2900520" y="857160"/>
            <a:ext cx="3341520" cy="2313000"/>
          </a:xfrm>
          <a:prstGeom prst="rect">
            <a:avLst/>
          </a:prstGeom>
          <a:ln w="0">
            <a:noFill/>
          </a:ln>
        </p:spPr>
      </p:sp>
      <p:sp>
        <p:nvSpPr>
          <p:cNvPr id="70" name="Прямоугольник 12290"/>
          <p:cNvSpPr/>
          <p:nvPr/>
        </p:nvSpPr>
        <p:spPr>
          <a:xfrm>
            <a:off x="914400" y="3300480"/>
            <a:ext cx="7313760" cy="26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Замещающий номер слайда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DF9E61-66A0-475F-924D-BC718896000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3312"/>
          <p:cNvSpPr/>
          <p:nvPr/>
        </p:nvSpPr>
        <p:spPr>
          <a:xfrm>
            <a:off x="5180040" y="6513480"/>
            <a:ext cx="3954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2900520" y="857160"/>
            <a:ext cx="3341520" cy="2313000"/>
          </a:xfrm>
          <a:prstGeom prst="rect">
            <a:avLst/>
          </a:prstGeom>
          <a:ln w="0">
            <a:noFill/>
          </a:ln>
        </p:spPr>
      </p:sp>
      <p:sp>
        <p:nvSpPr>
          <p:cNvPr id="74" name="Прямоугольник 13314"/>
          <p:cNvSpPr/>
          <p:nvPr/>
        </p:nvSpPr>
        <p:spPr>
          <a:xfrm>
            <a:off x="914400" y="3300480"/>
            <a:ext cx="7313760" cy="26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Замещающий номер слайда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79AD7E-6EF2-480A-8FB8-8E902A2008E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4336"/>
          <p:cNvSpPr/>
          <p:nvPr/>
        </p:nvSpPr>
        <p:spPr>
          <a:xfrm>
            <a:off x="5180040" y="6513480"/>
            <a:ext cx="3954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900520" y="857160"/>
            <a:ext cx="3341520" cy="2313000"/>
          </a:xfrm>
          <a:prstGeom prst="rect">
            <a:avLst/>
          </a:prstGeom>
          <a:ln w="0">
            <a:noFill/>
          </a:ln>
        </p:spPr>
      </p:sp>
      <p:sp>
        <p:nvSpPr>
          <p:cNvPr id="78" name="Прямоугольник 14338"/>
          <p:cNvSpPr/>
          <p:nvPr/>
        </p:nvSpPr>
        <p:spPr>
          <a:xfrm>
            <a:off x="914400" y="3300480"/>
            <a:ext cx="7313760" cy="26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89136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5360" y="3681360"/>
            <a:ext cx="89136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4349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62680" y="1604880"/>
            <a:ext cx="4349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5360" y="3681360"/>
            <a:ext cx="4349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62680" y="3681360"/>
            <a:ext cx="4349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2869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09280" y="1604880"/>
            <a:ext cx="2869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22840" y="1604880"/>
            <a:ext cx="2869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5360" y="3681360"/>
            <a:ext cx="2869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09280" y="3681360"/>
            <a:ext cx="2869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22840" y="3681360"/>
            <a:ext cx="2869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95360" y="1604880"/>
            <a:ext cx="89136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89136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43495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2680" y="1604880"/>
            <a:ext cx="43495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95360" y="272520"/>
            <a:ext cx="891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4349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2680" y="1604880"/>
            <a:ext cx="43495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60" y="3681360"/>
            <a:ext cx="4349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43495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2680" y="1604880"/>
            <a:ext cx="4349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62680" y="3681360"/>
            <a:ext cx="4349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4349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2680" y="1604880"/>
            <a:ext cx="4349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360" y="3681360"/>
            <a:ext cx="89136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Группа 1024"/>
          <p:cNvGrpSpPr/>
          <p:nvPr/>
        </p:nvGrpSpPr>
        <p:grpSpPr>
          <a:xfrm>
            <a:off x="7224480" y="3894120"/>
            <a:ext cx="2671560" cy="2651040"/>
            <a:chOff x="7224480" y="3894120"/>
            <a:chExt cx="2671560" cy="2651040"/>
          </a:xfrm>
        </p:grpSpPr>
        <p:sp>
          <p:nvSpPr>
            <p:cNvPr id="1" name="Прямое соединение 1025"/>
            <p:cNvSpPr/>
            <p:nvPr/>
          </p:nvSpPr>
          <p:spPr>
            <a:xfrm flipH="1">
              <a:off x="9073440" y="3894120"/>
              <a:ext cx="820800" cy="7477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Прямое соединение 1026"/>
            <p:cNvSpPr/>
            <p:nvPr/>
          </p:nvSpPr>
          <p:spPr>
            <a:xfrm flipH="1">
              <a:off x="7224480" y="4081320"/>
              <a:ext cx="2671560" cy="24638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Прямое соединение 1027"/>
            <p:cNvSpPr/>
            <p:nvPr/>
          </p:nvSpPr>
          <p:spPr>
            <a:xfrm flipH="1">
              <a:off x="8194680" y="4160880"/>
              <a:ext cx="1701000" cy="156348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Прямое соединение 1028"/>
            <p:cNvSpPr/>
            <p:nvPr/>
          </p:nvSpPr>
          <p:spPr>
            <a:xfrm flipH="1">
              <a:off x="8327880" y="4038480"/>
              <a:ext cx="1563120" cy="143352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Прямое соединение 1029"/>
            <p:cNvSpPr/>
            <p:nvPr/>
          </p:nvSpPr>
          <p:spPr>
            <a:xfrm flipH="1">
              <a:off x="8754840" y="4495680"/>
              <a:ext cx="1136160" cy="10400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Прямоугольник 1030"/>
          <p:cNvSpPr/>
          <p:nvPr/>
        </p:nvSpPr>
        <p:spPr>
          <a:xfrm>
            <a:off x="577800" y="6172200"/>
            <a:ext cx="62946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95360" y="1604880"/>
            <a:ext cx="89136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4096"/>
          <p:cNvSpPr/>
          <p:nvPr/>
        </p:nvSpPr>
        <p:spPr>
          <a:xfrm>
            <a:off x="369720" y="1469880"/>
            <a:ext cx="9310680" cy="9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Изображение 4097" descr=""/>
          <p:cNvPicPr/>
          <p:nvPr/>
        </p:nvPicPr>
        <p:blipFill>
          <a:blip r:embed="rId1"/>
          <a:stretch/>
        </p:blipFill>
        <p:spPr>
          <a:xfrm>
            <a:off x="3262320" y="4222800"/>
            <a:ext cx="4060800" cy="2282760"/>
          </a:xfrm>
          <a:prstGeom prst="rect">
            <a:avLst/>
          </a:prstGeom>
          <a:ln w="0">
            <a:noFill/>
          </a:ln>
        </p:spPr>
      </p:pic>
      <p:pic>
        <p:nvPicPr>
          <p:cNvPr id="54" name="Объект 4098" descr=""/>
          <p:cNvPicPr/>
          <p:nvPr/>
        </p:nvPicPr>
        <p:blipFill>
          <a:blip r:embed="rId2"/>
          <a:stretch/>
        </p:blipFill>
        <p:spPr>
          <a:xfrm>
            <a:off x="0" y="650880"/>
            <a:ext cx="3959280" cy="1077840"/>
          </a:xfrm>
          <a:prstGeom prst="rect">
            <a:avLst/>
          </a:prstGeom>
          <a:ln w="0">
            <a:noFill/>
          </a:ln>
        </p:spPr>
      </p:pic>
      <p:pic>
        <p:nvPicPr>
          <p:cNvPr id="55" name="Изображение 4099" descr=""/>
          <p:cNvPicPr/>
          <p:nvPr/>
        </p:nvPicPr>
        <p:blipFill>
          <a:blip r:embed="rId3"/>
          <a:stretch/>
        </p:blipFill>
        <p:spPr>
          <a:xfrm>
            <a:off x="457200" y="1079640"/>
            <a:ext cx="3502080" cy="2550960"/>
          </a:xfrm>
          <a:prstGeom prst="rect">
            <a:avLst/>
          </a:prstGeom>
          <a:ln w="0">
            <a:noFill/>
          </a:ln>
        </p:spPr>
      </p:pic>
      <p:pic>
        <p:nvPicPr>
          <p:cNvPr id="56" name="Объект 4100" descr=""/>
          <p:cNvPicPr/>
          <p:nvPr/>
        </p:nvPicPr>
        <p:blipFill>
          <a:blip r:embed="rId4"/>
          <a:stretch/>
        </p:blipFill>
        <p:spPr>
          <a:xfrm>
            <a:off x="2735280" y="3600360"/>
            <a:ext cx="4535640" cy="1077840"/>
          </a:xfrm>
          <a:prstGeom prst="rect">
            <a:avLst/>
          </a:prstGeom>
          <a:ln w="0">
            <a:noFill/>
          </a:ln>
        </p:spPr>
      </p:pic>
      <p:pic>
        <p:nvPicPr>
          <p:cNvPr id="57" name="Изображение 4101" descr=""/>
          <p:cNvPicPr/>
          <p:nvPr/>
        </p:nvPicPr>
        <p:blipFill>
          <a:blip r:embed="rId5"/>
          <a:stretch/>
        </p:blipFill>
        <p:spPr>
          <a:xfrm>
            <a:off x="6119640" y="1008000"/>
            <a:ext cx="3268800" cy="251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Объект 4102"/>
          <p:cNvGraphicFramePr/>
          <p:nvPr/>
        </p:nvGraphicFramePr>
        <p:xfrm>
          <a:off x="5645160" y="392040"/>
          <a:ext cx="3743280" cy="10778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59" name="Объект 410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645160" y="392040"/>
                    <a:ext cx="3743280" cy="10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5120"/>
          <p:cNvSpPr/>
          <p:nvPr/>
        </p:nvSpPr>
        <p:spPr>
          <a:xfrm>
            <a:off x="792000" y="287280"/>
            <a:ext cx="863928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  <a:ea typeface="Microsoft YaHe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  <a:ea typeface="Microsoft YaHe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Демаскирующие признаки установленных м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Характерными демаскирующими признаками противотанковых и противопехотные мины явля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- не убранный после установки мин грун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- забытая (разбросанная) укупорка от мин и взрывателей, бумажные этикет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- оставленный инструмент, принадлежности для минир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- указки и огражд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- наличие на местности бугорков, выступающих штырей, установочных и оттяжных кольев, шнуров, проволо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- просадка маскировочного слоя над мин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- отличие маскирующего слоя над минами от фона окружающей мест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- наличие натяжных проволок, прикрепленных к местным предметам, а также электрических провод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- нарушение кладки стен, дорожного покрыт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- частичное разрушение сооружений или их отдельных конструкц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- нагромождение различных предметов вблизи сооружений, маш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Изображение 6144" descr=""/>
          <p:cNvPicPr/>
          <p:nvPr/>
        </p:nvPicPr>
        <p:blipFill>
          <a:blip r:embed="rId1"/>
          <a:stretch/>
        </p:blipFill>
        <p:spPr>
          <a:xfrm>
            <a:off x="647640" y="144360"/>
            <a:ext cx="8926560" cy="647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Изображение 7168" descr=""/>
          <p:cNvPicPr/>
          <p:nvPr/>
        </p:nvPicPr>
        <p:blipFill>
          <a:blip r:embed="rId1"/>
          <a:stretch/>
        </p:blipFill>
        <p:spPr>
          <a:xfrm>
            <a:off x="1430280" y="190440"/>
            <a:ext cx="7245360" cy="6478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1-24T17:32:33Z</dcterms:created>
  <dc:creator>Филянин Виктор Сергеевич</dc:creator>
  <dc:description/>
  <dc:language>en-US</dc:language>
  <cp:lastModifiedBy>Приемная</cp:lastModifiedBy>
  <cp:lastPrinted>2022-01-24T17:32:33Z</cp:lastPrinted>
  <dcterms:modified xsi:type="dcterms:W3CDTF">2022-10-11T11:22:13Z</dcterms:modified>
  <cp:revision>130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KSOProductBuildVer">
    <vt:lpwstr>1049-11.1.0.9080</vt:lpwstr>
  </property>
  <property fmtid="{D5CDD505-2E9C-101B-9397-08002B2CF9AE}" pid="5" name="LinksUpToDate">
    <vt:bool>0</vt:bool>
  </property>
  <property fmtid="{D5CDD505-2E9C-101B-9397-08002B2CF9AE}" pid="6" name="MMClips">
    <vt:r8>0</vt:r8>
  </property>
  <property fmtid="{D5CDD505-2E9C-101B-9397-08002B2CF9AE}" pid="7" name="Notes">
    <vt:r8>0</vt:r8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25</vt:r8>
  </property>
</Properties>
</file>